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92C-619B-437E-92A3-F6E04AF0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23B-4C07-4F3A-81A4-6685161D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056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441D-A1B2-4D9B-AEC4-3911707A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596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840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596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840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724-A2F2-4665-8E40-0799DA82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074-9CE2-4DCE-9A23-F5ADA91F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056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056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596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840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596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9840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A717-32CF-4CB0-8DDA-2B227EE3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9E0-1934-49FE-8F4A-36281F8C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53D-075D-4926-AA0F-BDFA47E2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D041-37E4-4954-9805-D9A3A512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7776-03CA-45A4-92B2-FB24997A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056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79F7-FBAD-40E0-8073-B0CB0FCB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49356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056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8CE2-14E3-41F2-A11D-91145B78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6"/>
          <p:cNvSpPr/>
          <p:nvPr/>
        </p:nvSpPr>
        <p:spPr>
          <a:xfrm>
            <a:off x="-15840" y="289080"/>
            <a:ext cx="9159840" cy="917280"/>
          </a:xfrm>
          <a:custGeom>
            <a:avLst/>
            <a:gdLst>
              <a:gd name="textAreaLeft" fmla="*/ 0 w 9159840"/>
              <a:gd name="textAreaRight" fmla="*/ 9160200 w 9159840"/>
              <a:gd name="textAreaTop" fmla="*/ 0 h 917280"/>
              <a:gd name="textAreaBottom" fmla="*/ 917640 h 917280"/>
            </a:gdLst>
            <a:ahLst/>
            <a:rect l="textAreaLeft" t="textAreaTop" r="textAreaRight" b="textAreaBottom"/>
            <a:pathLst>
              <a:path w="5770" h="578">
                <a:moveTo>
                  <a:pt x="434" y="356"/>
                </a:moveTo>
                <a:lnTo>
                  <a:pt x="751" y="2"/>
                </a:lnTo>
                <a:lnTo>
                  <a:pt x="2158" y="0"/>
                </a:lnTo>
                <a:lnTo>
                  <a:pt x="2244" y="115"/>
                </a:lnTo>
                <a:lnTo>
                  <a:pt x="5770" y="115"/>
                </a:lnTo>
                <a:lnTo>
                  <a:pt x="5764" y="489"/>
                </a:lnTo>
                <a:lnTo>
                  <a:pt x="4998" y="495"/>
                </a:lnTo>
                <a:lnTo>
                  <a:pt x="4897" y="576"/>
                </a:lnTo>
                <a:lnTo>
                  <a:pt x="0" y="578"/>
                </a:lnTo>
                <a:lnTo>
                  <a:pt x="16" y="369"/>
                </a:lnTo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77353" dir="4837521" blurRad="0" rotWithShape="0">
              <a:srgbClr val="000066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-9360" y="322200"/>
            <a:ext cx="9153360" cy="85428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854280"/>
              <a:gd name="textAreaBottom" fmla="*/ 854640 h 854280"/>
            </a:gdLst>
            <a:ahLst/>
            <a:rect l="textAreaLeft" t="textAreaTop" r="textAreaRight" b="textAreaBottom"/>
            <a:pathLst>
              <a:path w="5766" h="531">
                <a:moveTo>
                  <a:pt x="433" y="360"/>
                </a:moveTo>
                <a:lnTo>
                  <a:pt x="767" y="3"/>
                </a:lnTo>
                <a:lnTo>
                  <a:pt x="2152" y="0"/>
                </a:lnTo>
                <a:lnTo>
                  <a:pt x="2228" y="113"/>
                </a:lnTo>
                <a:lnTo>
                  <a:pt x="5766" y="113"/>
                </a:lnTo>
                <a:lnTo>
                  <a:pt x="5766" y="442"/>
                </a:lnTo>
                <a:lnTo>
                  <a:pt x="4968" y="442"/>
                </a:lnTo>
                <a:lnTo>
                  <a:pt x="4880" y="531"/>
                </a:lnTo>
                <a:lnTo>
                  <a:pt x="0" y="521"/>
                </a:lnTo>
                <a:lnTo>
                  <a:pt x="0" y="373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b1e2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84C3-06EA-468C-9CF0-214A6CE5E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7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4" name="Freeform 18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>
                <a:gd name="textAreaLeft" fmla="*/ 0 w 9151920"/>
                <a:gd name="textAreaRight" fmla="*/ 9151920 w 9151920"/>
                <a:gd name="textAreaTop" fmla="*/ 0 h 1501920"/>
                <a:gd name="textAreaBottom" fmla="*/ 1502280 h 1501920"/>
              </a:gdLst>
              <a:ahLst/>
              <a:rect l="textAreaLeft" t="textAreaTop" r="textAreaRight" b="textAreaBottom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5" name="Freeform 19"/>
            <p:cNvSpPr/>
            <p:nvPr/>
          </p:nvSpPr>
          <p:spPr>
            <a:xfrm>
              <a:off x="-9360" y="2747880"/>
              <a:ext cx="9183600" cy="1420920"/>
            </a:xfrm>
            <a:custGeom>
              <a:avLst/>
              <a:gdLst>
                <a:gd name="textAreaLeft" fmla="*/ 0 w 9183600"/>
                <a:gd name="textAreaRight" fmla="*/ 9183960 w 9183600"/>
                <a:gd name="textAreaTop" fmla="*/ 0 h 1420920"/>
                <a:gd name="textAreaBottom" fmla="*/ 1420920 h 1420920"/>
              </a:gdLst>
              <a:ahLst/>
              <a:rect l="textAreaLeft" t="textAreaTop" r="textAreaRight" b="textAreaBottom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6" name="Text Box 14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53352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baaf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b1e2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1285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ПРОФЕССИОНАЛЬНОГО ОБРАЗОВАН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ЛЯБИНСКИЙ ИНСТИТУТ ПЕРЕПОДГОТОВКИ 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Я КВАЛИФИКАЦИИ РАБОТНИКОВ ОБРАЗОВАНИЯ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УПРАВЛЕНИЯ, ЭКОНОМИКИ И ПРА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2960" y="257148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endParaRPr b="1" lang="en-US" sz="1600" spc="-1" strike="noStrike">
              <a:solidFill>
                <a:srgbClr val="b1e2f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общеобразовательного учреждения </a:t>
            </a:r>
            <a:endParaRPr b="1" lang="en-US" sz="1600" spc="-1" strike="noStrike">
              <a:solidFill>
                <a:srgbClr val="b1e2f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редняя общеобразовательная школа «7 им. Д.П. Галкина» города Магнитогорска</a:t>
            </a:r>
            <a:endParaRPr b="1" lang="en-US" sz="16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16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е: «Нашей школе – 90!»</a:t>
            </a:r>
            <a:endParaRPr b="1" lang="en-US" sz="16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87" name="Текст 3"/>
          <p:cNvSpPr/>
          <p:nvPr/>
        </p:nvSpPr>
        <p:spPr>
          <a:xfrm>
            <a:off x="857160" y="4143240"/>
            <a:ext cx="77724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: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 – Кукар У.Ю.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.директора – Демидко М.А.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.директора – Федорова И.М.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стажировки: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леватая О.Н.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роекта: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ар У.Ю., директор, канд.пед.наук.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ябинск, 2020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8440" y="57132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У «СОШ №7 им. Д.П. Галкина»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рода Магнитогор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99680" y="1714680"/>
            <a:ext cx="83581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Arial Black"/>
              </a:rPr>
              <a:t>Нашей школе – 90!</a:t>
            </a:r>
            <a:endParaRPr b="1" lang="en-US" sz="6000" spc="-1" strike="noStrike">
              <a:solidFill>
                <a:srgbClr val="b1e2fb"/>
              </a:solidFill>
              <a:latin typeface="Verdana"/>
            </a:endParaRPr>
          </a:p>
        </p:txBody>
      </p:sp>
      <p:pic>
        <p:nvPicPr>
          <p:cNvPr id="90" name="Picture 2" descr="C:\Documents and Settings\Пользователь2\Рабочий стол\эмблема школы\7.png"/>
          <p:cNvPicPr/>
          <p:nvPr/>
        </p:nvPicPr>
        <p:blipFill>
          <a:blip r:embed="rId1"/>
          <a:stretch/>
        </p:blipFill>
        <p:spPr>
          <a:xfrm>
            <a:off x="179280" y="1341360"/>
            <a:ext cx="2160720" cy="2140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тива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071600" y="1499760"/>
            <a:ext cx="46911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Цель: Создание условий для повышения имиджа Учреждения</a:t>
            </a:r>
            <a:endParaRPr b="1" lang="en-US" sz="26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71680" y="3857400"/>
            <a:ext cx="825336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e2fb"/>
                </a:solidFill>
                <a:latin typeface="Verdana"/>
              </a:rPr>
              <a:t>Задачи: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e2fb"/>
                </a:solidFill>
                <a:latin typeface="Verdana"/>
              </a:rPr>
              <a:t>Подготовка локальных документов.</a:t>
            </a:r>
            <a:endParaRPr b="1" lang="en-US" sz="18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e2fb"/>
                </a:solidFill>
                <a:latin typeface="Verdana"/>
              </a:rPr>
              <a:t>Создание проблемно – творческих групп с целью реализации кейсов</a:t>
            </a:r>
            <a:endParaRPr b="1" lang="en-US" sz="18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e2fb"/>
                </a:solidFill>
                <a:latin typeface="Verdana"/>
              </a:rPr>
              <a:t>Реализация кейсов</a:t>
            </a:r>
            <a:endParaRPr b="1" lang="en-US" sz="18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e2fb"/>
                </a:solidFill>
                <a:latin typeface="Verdana"/>
              </a:rPr>
              <a:t>Анализ реализации проекта</a:t>
            </a:r>
            <a:endParaRPr b="1" lang="en-US" sz="18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pic>
        <p:nvPicPr>
          <p:cNvPr id="94" name="Содержимое 10" descr="C:\Documents and Settings\Пользователь2\Рабочий стол\для собрания\IMG_5192.JPG"/>
          <p:cNvPicPr/>
          <p:nvPr/>
        </p:nvPicPr>
        <p:blipFill>
          <a:blip r:embed="rId1"/>
          <a:srcRect l="6492" t="14704" r="4152" b="20951"/>
          <a:stretch/>
        </p:blipFill>
        <p:spPr>
          <a:xfrm>
            <a:off x="285840" y="1643040"/>
            <a:ext cx="3601800" cy="192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0080" y="50004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рожная к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2"/>
          <p:cNvSpPr/>
          <p:nvPr/>
        </p:nvSpPr>
        <p:spPr>
          <a:xfrm>
            <a:off x="285840" y="1643040"/>
            <a:ext cx="8501040" cy="857160"/>
          </a:xfrm>
          <a:prstGeom prst="rect">
            <a:avLst/>
          </a:prstGeom>
          <a:solidFill>
            <a:srgbClr val="4baaf1"/>
          </a:solidFill>
          <a:ln w="25560">
            <a:solidFill>
              <a:srgbClr val="357c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Verdana"/>
              </a:rPr>
              <a:t>«Достойные славы отцов!» </a:t>
            </a:r>
            <a:endParaRPr b="0" lang="en-US" sz="26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Verdana"/>
              </a:rPr>
              <a:t>(кейс: спортивно-оздоровительный)</a:t>
            </a:r>
            <a:endParaRPr b="0" lang="en-US" sz="2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7" name="Прямоугольник 13"/>
          <p:cNvSpPr/>
          <p:nvPr/>
        </p:nvSpPr>
        <p:spPr>
          <a:xfrm>
            <a:off x="0" y="2857680"/>
            <a:ext cx="8501040" cy="857160"/>
          </a:xfrm>
          <a:prstGeom prst="rect">
            <a:avLst/>
          </a:prstGeom>
          <a:solidFill>
            <a:srgbClr val="4baaf1"/>
          </a:solidFill>
          <a:ln w="25560">
            <a:solidFill>
              <a:srgbClr val="357c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e2fb"/>
                </a:solidFill>
                <a:latin typeface="Verdana"/>
              </a:rPr>
              <a:t>«Время вперед»</a:t>
            </a:r>
            <a:endParaRPr b="0" lang="en-US" sz="26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e2fb"/>
                </a:solidFill>
                <a:latin typeface="Verdana"/>
              </a:rPr>
              <a:t>(кейс: «исторический»)</a:t>
            </a:r>
            <a:endParaRPr b="0" lang="en-US" sz="2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428760" y="4143240"/>
            <a:ext cx="8501040" cy="857520"/>
          </a:xfrm>
          <a:prstGeom prst="rect">
            <a:avLst/>
          </a:prstGeom>
          <a:solidFill>
            <a:srgbClr val="4baaf1"/>
          </a:solidFill>
          <a:ln w="25560">
            <a:solidFill>
              <a:srgbClr val="357c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Verdana"/>
              </a:rPr>
              <a:t>«Мы вместе!»</a:t>
            </a:r>
            <a:endParaRPr b="0" lang="en-US" sz="26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Verdana"/>
              </a:rPr>
              <a:t>(кейс: социальный»)</a:t>
            </a:r>
            <a:endParaRPr b="0" lang="en-US" sz="2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99" name="Прямоугольник 15"/>
          <p:cNvSpPr/>
          <p:nvPr/>
        </p:nvSpPr>
        <p:spPr>
          <a:xfrm>
            <a:off x="214200" y="5429160"/>
            <a:ext cx="8501040" cy="857520"/>
          </a:xfrm>
          <a:prstGeom prst="rect">
            <a:avLst/>
          </a:prstGeom>
          <a:solidFill>
            <a:srgbClr val="4baaf1"/>
          </a:solidFill>
          <a:ln w="25560">
            <a:solidFill>
              <a:srgbClr val="357c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«отКЛИК»</a:t>
            </a:r>
            <a:endParaRPr b="0" lang="en-US" sz="26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(кейс: информационный)</a:t>
            </a:r>
            <a:endParaRPr b="0" lang="en-US" sz="2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остойные славы отцов!»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кейс: спортивно-оздоровительны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6760" y="1356840"/>
            <a:ext cx="8039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85ae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Определение социальных групп для реализации кейса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85ae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азработка сценария проведения.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85ae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оведение мероприятий.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85ae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Освещение результатов в СМИ, на сайте Учреждения.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85ae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85ae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2920" y="5072040"/>
            <a:ext cx="885816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2fb"/>
                </a:solidFill>
                <a:latin typeface="Verdana"/>
              </a:rPr>
              <a:t>http://tv-in.ru/novosti/sport/dostojnye-slavy-ottsov.html</a:t>
            </a:r>
            <a:endParaRPr b="1" lang="en-US" sz="24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476280"/>
            <a:ext cx="73915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Время вперед»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(кейс: «исторический»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4200" y="128556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e2fb"/>
                </a:solidFill>
                <a:latin typeface="Verdana"/>
              </a:rPr>
              <a:t>1. Интервьюирование  выпускников – успешных в своей профессии.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e2fb"/>
                </a:solidFill>
                <a:latin typeface="Verdana"/>
              </a:rPr>
              <a:t>2. Проведение мастер – классов выпускниками для обучающихся Учреждения.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e2fb"/>
                </a:solidFill>
                <a:latin typeface="Verdana"/>
              </a:rPr>
              <a:t>3. Проведение викторины «Школа и город  - линия развития».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e2fb"/>
                </a:solidFill>
                <a:latin typeface="Verdana"/>
              </a:rPr>
              <a:t>4. Разработка виртуального музея «Слово о учителе».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e2fb"/>
                </a:solidFill>
                <a:latin typeface="Verdana"/>
              </a:rPr>
              <a:t>5. Круглые столы «Сто вопросов деловому выпускнику»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«Мы вместе!»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(кейс: социальный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1341000"/>
            <a:ext cx="84772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1. Выездной профориентационный маршрут.</a:t>
            </a:r>
            <a:endParaRPr b="1" lang="en-US" sz="26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2. «День открытых дверей»:</a:t>
            </a:r>
            <a:endParaRPr b="1" lang="en-US" sz="26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- мастер-классы родителей обучающихся «Я – Мастер!»;</a:t>
            </a:r>
            <a:endParaRPr b="1" lang="en-US" sz="26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just">
              <a:spcBef>
                <a:spcPts val="649"/>
              </a:spcBef>
              <a:buClr>
                <a:srgbClr val="85ae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виртуальный флешмоб «Моя успешность».</a:t>
            </a:r>
            <a:endParaRPr b="1" lang="en-US" sz="26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3. Участие в мероприятиях муниципального и регионального уровней по социальному проектированию «Твой выбор», «Я – гражданин»</a:t>
            </a:r>
            <a:endParaRPr b="1" lang="en-US" sz="26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just">
              <a:spcBef>
                <a:spcPts val="649"/>
              </a:spcBef>
              <a:buClr>
                <a:srgbClr val="85ae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тКЛИК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кейс: информационны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7120" y="1499760"/>
            <a:ext cx="878688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e2fb"/>
                </a:solidFill>
                <a:latin typeface="Verdana"/>
              </a:rPr>
              <a:t>1. Конкурс видеороликов «Школьный кинозал».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e2fb"/>
                </a:solidFill>
                <a:latin typeface="Verdana"/>
              </a:rPr>
              <a:t>2. Выпуск школьной газеты.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e2fb"/>
                </a:solidFill>
                <a:latin typeface="Verdana"/>
              </a:rPr>
              <a:t>3. Создание информационной рубрики в социальной сети «ВКонтакте».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e2fb"/>
                </a:solidFill>
                <a:latin typeface="Verdana"/>
              </a:rPr>
              <a:t>4. Издание книги «Моя жизнь – моя судьба».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85ae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e2fb"/>
                </a:solidFill>
                <a:latin typeface="Verdana"/>
              </a:rPr>
              <a:t>5. Публикации статей в СМИ, сборниках научно-практических конференций, сайте Учреждения.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3"/>
          <p:cNvSpPr txBox="1"/>
          <p:nvPr/>
        </p:nvSpPr>
        <p:spPr>
          <a:xfrm>
            <a:off x="1981080" y="3029040"/>
            <a:ext cx="5543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3399"/>
                </a:soli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Благодарим за внимание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solidFill>
                <a:srgbClr val="003399"/>
              </a:soli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6:01:34Z</dcterms:created>
  <dc:creator>Vlada</dc:creator>
  <dc:description/>
  <dc:language>en-US</dc:language>
  <cp:lastModifiedBy>Админ</cp:lastModifiedBy>
  <cp:lastPrinted>2017-09-14T09:24:27Z</cp:lastPrinted>
  <dcterms:modified xsi:type="dcterms:W3CDTF">2020-06-17T14:53:03Z</dcterms:modified>
  <cp:revision>285</cp:revision>
  <dc:subject/>
  <dc:title>PowerPoint Template</dc:title>
</cp:coreProperties>
</file>